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1ED9-1C4E-4E1B-BF8B-3C4F7F69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C27D-D759-40EB-9398-7D3F58B9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5E5-79E1-41BF-9FA1-1EA0993E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212-FA0C-430F-BCA7-22B923F2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A1B1-B7CB-43CE-B7B4-228E3BA8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C554-94CE-4212-BF58-D68A18BE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CE75-F360-4608-848C-B31DBAFE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FD7-150D-4D11-AEC4-C815711F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CC2B-4EE8-4C3B-8FAB-0CBAA772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30F-55FE-4C29-9C87-426A3EDA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222D-D7F1-43A3-A24E-0219F57E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A3A4-0EA9-4761-8985-3F072CDA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5B97-2833-40C0-85EC-309BF80808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0" y="651996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МБОУ школа 9 г. Кулеба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3" name="_s2052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3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54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55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56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57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58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59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60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1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062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3040" cy="1446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user</cp:lastModifiedBy>
  <dcterms:modified xsi:type="dcterms:W3CDTF">2017-08-21T09:05:57Z</dcterms:modified>
  <cp:revision>13</cp:revision>
  <dc:subject/>
  <dc:title>Экологические проблемы  г. Кулебаки</dc:title>
</cp:coreProperties>
</file>